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CA2C-7D5B-49FC-92C8-0212A37A2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27F1-0420-4898-A64C-991708C66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33F1-57F9-43C8-96CA-DF7BA47C6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1113-F272-49D5-B7CC-F7E789A5C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A480-C429-4D38-B3A6-29557DC70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446B-1ACE-4231-A912-BFCE17446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D7A5-FFAF-490E-98D9-9FF3A47FC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C20B-2C83-4D36-B16D-AD2F90112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E907-697E-4E48-BD37-D614B1379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0CE8-A137-4C0C-BAE6-7192EF776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FDDA-60D4-41EE-B7C2-B0620CFFC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216F-C8F0-4E6C-89B0-41C482159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4EFB-A5EE-4D43-A24E-5CEEC28E3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2EC6-E007-4F4C-960D-5B5A41F36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2D22-A843-461A-B47F-E72D6CB74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E30F-6DE4-4F31-9FB8-9CDDF2CC0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68CD-EDD8-495D-B5FF-FA095905867C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8 Projects\C21 Accounting\C21 Acct Covers\C21 Accounting Cover Images_Green\Gilbertson_0538447567_amzn.jpg"/>
          <p:cNvPicPr/>
          <p:nvPr/>
        </p:nvPicPr>
        <p:blipFill>
          <a:blip r:embed="rId2"/>
          <a:stretch/>
        </p:blipFill>
        <p:spPr>
          <a:xfrm>
            <a:off x="0" y="23760"/>
            <a:ext cx="96048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8 Projects\C21 Accounting\C21 Acct Covers\C21 Accounting Cover Images_Green\Gilbertson_0538447567_amzn.jpg"/>
          <p:cNvPicPr/>
          <p:nvPr/>
        </p:nvPicPr>
        <p:blipFill>
          <a:blip r:embed="rId2"/>
          <a:stretch/>
        </p:blipFill>
        <p:spPr>
          <a:xfrm>
            <a:off x="0" y="23760"/>
            <a:ext cx="96048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ow Business Activities Change the Accounting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37CC-A4C5-409E-A023-8DA6BAFF0DF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ING C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gust 1. Received cash from owner as an investment, $5,00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28" descr="C:\Documents and Settings\mcm08@fuse.net\My Documents\2005 Business Projects\Slides for Century 21 Accounting\Blue\ch01\C21_blue_0102.jpg"/>
          <p:cNvPicPr/>
          <p:nvPr/>
        </p:nvPicPr>
        <p:blipFill>
          <a:blip r:embed="rId1"/>
          <a:stretch/>
        </p:blipFill>
        <p:spPr>
          <a:xfrm>
            <a:off x="917640" y="2819520"/>
            <a:ext cx="7769160" cy="197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30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AE42-6250-49B0-BF22-1B87CF02D8C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ING C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gust 3. Paid cash for supplies, $275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:\Documents and Settings\mcm08@fuse.net\My Documents\2005 Business Projects\Slides for Century 21 Accounting\Blue\ch01\C21_blue_0103.jpg"/>
          <p:cNvPicPr/>
          <p:nvPr/>
        </p:nvPicPr>
        <p:blipFill>
          <a:blip r:embed="rId1"/>
          <a:stretch/>
        </p:blipFill>
        <p:spPr>
          <a:xfrm>
            <a:off x="917640" y="2782800"/>
            <a:ext cx="7769160" cy="23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57200" y="57150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gust 4. Paid cash for insurance, $1,20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457200" y="3890880"/>
            <a:ext cx="365040" cy="182520"/>
          </a:xfrm>
          <a:custGeom>
            <a:avLst/>
            <a:gdLst>
              <a:gd name="textAreaLeft" fmla="*/ 0 w 365040"/>
              <a:gd name="textAreaRight" fmla="*/ 365400 w 365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57200" y="4437000"/>
            <a:ext cx="365040" cy="182520"/>
          </a:xfrm>
          <a:custGeom>
            <a:avLst/>
            <a:gdLst>
              <a:gd name="textAreaLeft" fmla="*/ 0 w 365040"/>
              <a:gd name="textAreaRight" fmla="*/ 365400 w 365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2DB1-F3BD-45D9-A385-6EC7A11F6942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30080"/>
            <a:ext cx="7772400" cy="7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ugust 7. Bought supplies on account from Supply Depot, $50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:\Documents and Settings\mcm08@fuse.net\My Documents\2005 Business Projects\Slides for Century 21 Accounting\Blue\ch01\C21_blue_0104.jpg"/>
          <p:cNvPicPr/>
          <p:nvPr/>
        </p:nvPicPr>
        <p:blipFill>
          <a:blip r:embed="rId1"/>
          <a:stretch/>
        </p:blipFill>
        <p:spPr>
          <a:xfrm>
            <a:off x="914400" y="2664000"/>
            <a:ext cx="7769160" cy="2523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457200" y="5440320"/>
            <a:ext cx="7772400" cy="7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ugust 11. Paid cash on account to Supply Depot, $30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57200" y="3911760"/>
            <a:ext cx="365040" cy="182520"/>
          </a:xfrm>
          <a:custGeom>
            <a:avLst/>
            <a:gdLst>
              <a:gd name="textAreaLeft" fmla="*/ 0 w 365040"/>
              <a:gd name="textAreaRight" fmla="*/ 365400 w 365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57200" y="4457880"/>
            <a:ext cx="365040" cy="182520"/>
          </a:xfrm>
          <a:custGeom>
            <a:avLst/>
            <a:gdLst>
              <a:gd name="textAreaLeft" fmla="*/ 0 w 365040"/>
              <a:gd name="textAreaRight" fmla="*/ 365400 w 365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82C8-3256-4E7F-9EAF-62A1F151FAD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3:39Z</dcterms:created>
  <dc:creator>M. C. McLaughlin</dc:creator>
  <dc:description/>
  <dc:language>en-US</dc:language>
  <cp:lastModifiedBy>image</cp:lastModifiedBy>
  <dcterms:modified xsi:type="dcterms:W3CDTF">2012-08-30T19:48:37Z</dcterms:modified>
  <cp:revision>13</cp:revision>
  <dc:subject/>
  <dc:title>Lesson 1-1</dc:title>
</cp:coreProperties>
</file>